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1C0267B-A852-404B-B08A-F9C90C23D0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D8B279-3ECD-4613-844A-1BE83514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34184BD-0952-4D8D-9DFC-E13E1FE22C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81B8EBA-44DB-4396-8D9E-B98D7F43A8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F4A2EC4-5761-4EAE-A691-E171CF0DD2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090EE83-99B5-49E2-ADA0-B637D70090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7D6029-2EAC-410E-8ABD-47D5D0591D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69BE201-19BE-46EE-BCE1-FB6B9B1A05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E8F0931-2143-42DB-945C-524D5DECD4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118FAC5-39E6-4D04-9FD0-A220933A97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84898DE-728F-4E47-AA14-DCCA772FA5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AFB323B-6A18-4FD9-B238-17ABFD2151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DA278B-2625-47B9-A463-7CB602D527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085C192-65A8-45B9-BD1E-ACF6AD4B1E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CD9EE7B-DB2D-473A-A971-FE7D14011F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E7B4B93-2729-4726-AA80-32816935FE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94D8618-2433-4621-A0F3-1DADF77C16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83DA5FF-C512-4EB3-A772-D760B6BF4C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AABC0B2-1B74-43AB-A447-558789EE3C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35C26A0-3728-4CC1-B037-0BB8C59BBC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F00C94C-2284-48C3-A7AD-7F459DE98F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2F0FEEC-509C-45CE-9062-9AD9F3A619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2F9B4BB-01E9-4D19-B97C-2A6DAF51F9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E922443-CBFC-4841-BE84-878749B5F2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E3A848D-1961-4DBF-BDDF-1A615EF7757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92E59E1-9200-40A7-AFB8-CAF753E126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B920EC5-25A0-4026-9109-15D1699B8F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E6102FA-DEBA-4CC0-99BB-E8B9703E18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03317B-3EB3-47F8-9683-A0E25CEC69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AD53FE-DD80-4C96-93CD-5AABE5F3FA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035080" y="623880"/>
            <a:ext cx="2857680" cy="21430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82480" y="2876040"/>
            <a:ext cx="5997600" cy="60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41E7F74-CD76-447E-9770-6A5A9BDD03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DDEDF3-29D6-42D8-B90A-3FB38E4427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8DE13F9-5ACA-4E07-AC7E-50D8F847C2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759E119-703F-45A1-8EE9-C83E8828F4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2FAA51C-3617-4789-B257-1E59A580AB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6FF5AC-4211-48BA-BB6E-BF653C5E89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E6EA8F-3059-4B49-B129-4A5F9D4786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079CBE1-0EDD-489D-8880-5DCD39F297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E3A6-1642-46F0-BB2C-0F66CE2818B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93BC-E090-44E7-818B-94F9AEC8DD4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959B-C206-4550-AA16-3D6C5E44087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7287-671D-4390-9341-81A50552749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6452-FFD7-48A7-85D3-8FF9E897891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AEA9-B2F0-4B8C-8010-693ABFF2CE3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CF36-05BB-4D7B-93A4-9157130FBE1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567-C33C-4DF9-9BA9-BC8C11A6B92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8101-CDA2-46FB-8DAD-4C33BE352A1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1F1-F587-427B-A930-A01EB481596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F8BD-7317-4B08-AB28-6AC7EFEE77A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F0D-B1C3-4E45-B8AF-0B812FFE731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E79-53C4-4E02-8841-C58B9D836AF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E0F9-4B29-4DDE-BC40-B3E14571F83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6B5-40EB-46EF-8B3E-41DF20CD011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A7D-5F94-4039-A814-5026AD5CA4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Process Measurement - </a:t>
            </a:r>
            <a:fld id="{5CCE89EF-28B2-413B-B3AF-38908DED46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Process Measurement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Defect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03240" y="15807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defect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historical baseline of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numbers and types of defects inj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elative costs of removing  defects in each PSP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questions these data can help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defects did I make in each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defects did I remove in each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t take to find and fix each defec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Derived Meas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888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SP derived measur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ate and To Date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size developed or reviewed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Reuse and % New Reu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/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learn about these measures in the rest of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Measurement 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679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s must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d to development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 coun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for early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Versus Development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94960" y="1581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incipal requirement:  If the size measure is not directly related to development cost, it is not worth us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possibl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s of code (LO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ges, screens, scripts,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ze measure should be sensitive to language, design, and development pract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3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Pages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Picture1"/>
          <p:cNvPicPr/>
          <p:nvPr/>
        </p:nvPicPr>
        <p:blipFill>
          <a:blip r:embed="rId1"/>
          <a:stretch/>
        </p:blipFill>
        <p:spPr>
          <a:xfrm>
            <a:off x="1000080" y="1743120"/>
            <a:ext cx="6915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237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 Size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Object 3"/>
          <p:cNvGraphicFramePr/>
          <p:nvPr/>
        </p:nvGraphicFramePr>
        <p:xfrm>
          <a:off x="679320" y="15415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15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rt Size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693720" y="15289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289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Elements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3"/>
          <p:cNvGraphicFramePr/>
          <p:nvPr/>
        </p:nvGraphicFramePr>
        <p:xfrm>
          <a:off x="692280" y="1600200"/>
          <a:ext cx="6914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6914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6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LO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3"/>
          <p:cNvGraphicFramePr/>
          <p:nvPr/>
        </p:nvGraphicFramePr>
        <p:xfrm>
          <a:off x="679320" y="15462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62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0936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LOC Versus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Object 3"/>
          <p:cNvGraphicFramePr/>
          <p:nvPr/>
        </p:nvGraphicFramePr>
        <p:xfrm>
          <a:off x="679320" y="148104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48104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8720" y="874440"/>
            <a:ext cx="7548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72640" y="1619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measur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size measurement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ing 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7160" y="931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to Developm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87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ges are often an acceptable measure for document develo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 is usually a good measure for developing source programs like Pascal and C++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possible measures are function points, screens, modules, database elements, and maintenance fix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69760" y="877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cision and Accur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4" descr="S21"/>
          <p:cNvPicPr/>
          <p:nvPr/>
        </p:nvPicPr>
        <p:blipFill>
          <a:blip r:embed="rId1"/>
          <a:stretch/>
        </p:blipFill>
        <p:spPr>
          <a:xfrm>
            <a:off x="1076400" y="1638360"/>
            <a:ext cx="699120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0756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wo people measure the same thing, will they get the same resul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so requires a precise measurement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must also be properly appl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people will likely have different definitions of database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cal LOC do not equate to assembler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LOC are not the same as modified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LOC do not equate to physical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3400" indent="-14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person’s C++ LOC may not relate to someone else’s C++ LO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Coun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744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al size counting is time-consuming and inaccur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ed counters will only work for defined product characteris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s can be complex, depending on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definition sel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ing method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itable for Early Planning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870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aking initial project plans, measures are needed that you can visualize at the beginning of th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house, square feet predicts co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w people can visualize a house in terms of square feet of living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s of rooms is more intu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ve size measures are usually needed for initial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itable for Early Plannin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14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fortunately, popular intuitive measures are not often measurable, and popular measurable measures are often not intu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direct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intu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ly meas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8416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996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with product development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requir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characteristic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special development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products by resource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what characteristics distinguish those products that took the greatest effort from those that took the lea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967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41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if these differences are measur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e a selected measure for the product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is no correlation, try a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ay be no single best meas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bination of measures could b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for handling multiple measures are discussed l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11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ng a Size Measure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66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are better at estimating resources than program size, size estimation will not improve your plan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estimate resources directly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accurate recor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a large data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n estimating gu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56800" y="917280"/>
            <a:ext cx="7751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 Measuremen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0144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ggested PSP LOC measure uses logical (versus physical) lines of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men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execu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d statement typ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and code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gin and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77680" y="9475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easurement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8884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measurements should 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ed for a specific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icitly 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man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ly u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ing your process will not improve it.  You must make process changes to achieve lasting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71200" y="890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ing Program Size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0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al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ariant to editing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e with development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defin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to 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easy to cou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ot invar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precisely defined for each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ing Program Size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8560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uses a coding standard and a physical counter for LOC siz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coding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ine for each logical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tandard must be faithfully fo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physical line counting equals logical line coun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96760" y="861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C Counting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74800" y="1563840"/>
            <a:ext cx="8083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 ISet.Set(var N: int; var inc: boolea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 := fal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Ptr := SetStar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(SearchPtr&lt;&gt;nil) and (inc == false)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earchPtr^.ThisN ==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 :=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Ptr:=SearchPtr^.Next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69760" y="861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’s LOC Counting Stand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969480" y="1617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all statements.  This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, end, if, then, els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, }, ;, 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arations, directives, header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count blanks, comment lines, or automatically generated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 added and modified code for measuring and estimating development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 Ac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41040" y="16048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mall products, size tracking can be done manually, but it requires c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larger products, size tracking requires an accounting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accounting provides an orderly and precise way of tracking size changes through multiple product ver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50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ize Accounting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339000" y="5938920"/>
            <a:ext cx="2964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700" spc="-1" strike="noStrike">
                <a:solidFill>
                  <a:srgbClr val="6eb2e6"/>
                </a:solidFill>
                <a:latin typeface="Arial"/>
              </a:rPr>
              <a:t>What happen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1" descr="S35"/>
          <p:cNvPicPr/>
          <p:nvPr/>
        </p:nvPicPr>
        <p:blipFill>
          <a:blip r:embed="rId1"/>
          <a:stretch/>
        </p:blipFill>
        <p:spPr>
          <a:xfrm>
            <a:off x="1285920" y="1693800"/>
            <a:ext cx="65707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1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ize Accounting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1120" y="1511280"/>
            <a:ext cx="7559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 marL="128520" indent="-12852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330200" y="1535040"/>
          <a:ext cx="6364440" cy="4470480"/>
        </p:xfrm>
        <a:graphic>
          <a:graphicData uri="http://schemas.openxmlformats.org/drawingml/2006/table">
            <a:tbl>
              <a:tblPr/>
              <a:tblGrid>
                <a:gridCol w="1698840"/>
                <a:gridCol w="1554120"/>
                <a:gridCol w="1542960"/>
                <a:gridCol w="156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V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V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 Pro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dded and Modified L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6976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914040" y="1577880"/>
            <a:ext cx="7736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ffectively plan and manage your work, you must measure product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different types of work, use different size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measure, size must correlate with development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size measure does not correlate or is not automatically countable, it will not be very use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 size measure should be precisely defined and automatically coun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63280" y="9615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Measurement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728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easu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and manag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or plan for the fu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one product, process, or organization with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dherence to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basis for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7768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032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s only produce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they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to business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operly interpr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 to appropriate 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business purposes for the measurements are not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rong data may be gath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7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y not be properly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61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39960" y="159552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nerally need objective and explicit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useful, we need relationships that corre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 versus development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 den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lso seek a controlling or predictive cap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 to reduce test de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o improve review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s to improv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05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7452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sic PSP data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spent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cts found and injected by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actual and estimated data are gathered on every i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derived from these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ze process qu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6328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Siz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6004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size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 consistent size meas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basis for normalizing time and defect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make better siz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 the questions these data can help to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ize program did I plan to develo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good was my size est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ompleted size of the finished progr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6328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Tim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7444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the PSP time measur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how much time you spend in each PSP ph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you to make better tim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questions these data can help answer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 spend by PSP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69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time did I plan to spend by PSP ph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14Z</dcterms:modified>
  <cp:revision>128</cp:revision>
  <dc:subject/>
  <dc:title>No Slide Title</dc:title>
</cp:coreProperties>
</file>